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659B-8360-43B8-92BD-E51C5CB7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: if genes are located on separate chromosomes, they will be inherited independently of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reuniversity.grkraj.org/html/9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topic/how-to-double-cros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corner.com/bio2/genetics/notes_dihybr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unnett_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69F-1050-436B-8ADC-3F6BE334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904-AC6B-415E-993C-FEFBD59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C0D-C3B9-4631-8BA7-6BD8E9F9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023-72AB-49EC-83D4-CF280B18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BD3-E7FB-41FC-A202-B71A64F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D7-E84A-4CBC-A0B0-D85E6BB8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948-EE4F-4BF6-BF75-BAEFDD6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BD2-81EB-41B0-B97F-922BB56F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806-43E7-4BAF-B1BD-457179C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903-0D3C-4FA1-864D-CD13BD1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740-87C5-4B95-B015-CD88571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DE0-8672-4703-89E7-E431D76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532-9D9F-4E98-AC9B-B6613A0A6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trait Inheritance (5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udied the inheritance of 2 separate tra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8240" y="1981080"/>
            <a:ext cx="47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round yellow seeds is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green wrinkled seeds i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 -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65400" y="380880"/>
            <a:ext cx="4887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one large Punnett square, you could use a Punnett square for each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probabilities of each trait to get your phenotyp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62080" y="609480"/>
            <a:ext cx="681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ke up the sheet &amp; Practice #1 on page 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39:20Z</dcterms:created>
  <dc:creator>rubina khan</dc:creator>
  <dc:description/>
  <dc:language>en-US</dc:language>
  <cp:lastModifiedBy>rubina khan</cp:lastModifiedBy>
  <dcterms:modified xsi:type="dcterms:W3CDTF">2014-10-24T01:06:03Z</dcterms:modified>
  <cp:revision>46</cp:revision>
  <dc:subject/>
  <dc:title>Genetic Processes</dc:title>
</cp:coreProperties>
</file>